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5034-CE08-43D2-82AF-F19C5C637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4A20-C569-4F7E-837F-A29FDD6AA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5 example click on grade 3 – pageflakes of voice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voicethread.com/#q.b14574.i0.k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sley Fryers Great book sto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languag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2FE6-DD92-4BA5-A7A9-2C27CFF74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F918-B939-4DF0-9C3A-8D361D8CD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CBAB-613B-4F0C-8D44-BB7F1D29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6356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6356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A347-244B-435C-8395-38F083765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0888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3652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0888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3652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2920-7EDB-4203-A3AD-2357504E9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393A-B03B-4F1F-BEFD-255BAC862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AD96-EAF1-43B2-8C00-112C1B63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80DA-3165-4B95-8B8D-3E60117B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36356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CEA4-D3CB-447F-9333-DF51204E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3181-A23E-40B0-BB40-9011CEA3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7619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7E82-CE92-4AED-A0B2-F5FD208B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6356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03FC-C59F-42D1-AFA0-18C86060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7699-3033-4BB1-B643-CE65988C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356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6356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B189-AC75-4C72-BB07-A38BA312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356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9A60-FD6D-47A3-84C5-2C9BFBEA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F4BF-44E8-40B3-9ACA-7457A35E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356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36356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7F5E-424F-4B88-96EB-D67A5646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0888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3652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0888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3652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2A10-4AE7-42F7-A49F-4DE0099AF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5C48-1162-4EBA-B699-F3EC3F9F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6356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B4B0-BC07-4F18-B09A-4B708262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6FA2-5ACA-4CAE-A259-9DE9F923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7619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501E-6502-4D18-8C57-BF4A6B18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356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618A-F306-4BEB-8B06-84C864EE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356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6356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0BDA-08A4-4AD2-BFF5-9780E58F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6356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078F-C4C8-454C-8C0C-5BDDA533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720" y="64008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8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2AFB-60FA-48FF-9C0A-8179A4A25B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A0A9-6746-4BEB-B3AB-44BEFEF527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369360"/>
            <a:ext cx="815328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op Web 2.0 Tool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oicethread/J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-360" y="1295280"/>
            <a:ext cx="762012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ie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or of Technology &amp;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keview Acade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8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08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e – start cap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– copies of cap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– settings like setting up a hot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jingbutton.jpg"/>
          <p:cNvPicPr/>
          <p:nvPr/>
        </p:nvPicPr>
        <p:blipFill>
          <a:blip r:embed="rId1"/>
          <a:stretch/>
        </p:blipFill>
        <p:spPr>
          <a:xfrm>
            <a:off x="1066680" y="1371600"/>
            <a:ext cx="214308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Content Placeholder 3" descr="jingbut2.jpg"/>
          <p:cNvPicPr/>
          <p:nvPr/>
        </p:nvPicPr>
        <p:blipFill>
          <a:blip r:embed="rId1"/>
          <a:stretch/>
        </p:blipFill>
        <p:spPr>
          <a:xfrm>
            <a:off x="2438280" y="990720"/>
            <a:ext cx="4556160" cy="20574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4"/>
          <p:cNvSpPr/>
          <p:nvPr/>
        </p:nvSpPr>
        <p:spPr>
          <a:xfrm>
            <a:off x="685800" y="3352680"/>
            <a:ext cx="6629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d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c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ture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08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art Video Cap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jingbut3.jpg"/>
          <p:cNvPicPr/>
          <p:nvPr/>
        </p:nvPicPr>
        <p:blipFill>
          <a:blip r:embed="rId1"/>
          <a:stretch/>
        </p:blipFill>
        <p:spPr>
          <a:xfrm>
            <a:off x="1143000" y="1219320"/>
            <a:ext cx="340524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4032000" cy="22860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"/>
          <p:cNvSpPr/>
          <p:nvPr/>
        </p:nvSpPr>
        <p:spPr>
          <a:xfrm>
            <a:off x="304920" y="3811680"/>
            <a:ext cx="6248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to Screencast (UR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to Screencast (emb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c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o name your screenca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808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screencast.com/t/IfSMfKMQfY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ed practic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oicethre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8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onversation build around media such as images, documents and videos.  Individuals can comment by voice, text, audio file or webcam and then share with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8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I use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used for storytelling, research, individual thought, expression, teaching, assessment and much more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oicethread4education.wikispaces.com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does it co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for K-12 classroom edu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join Ed.voicethread which is secure and students can participate without ema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60.00  p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subscription available with administrative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student increments at $1 per 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0 students = $35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 get star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ttp://voicethread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lick on the sign in or register li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“Educator” during reg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1400" y="1676520"/>
            <a:ext cx="809280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08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s On Practice and Down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808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jingproject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GB free storage and 2GB bandwidth on Screencas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371600" y="2438280"/>
            <a:ext cx="600084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07:08:09Z</dcterms:created>
  <dc:creator>Fac - White,Connie</dc:creator>
  <dc:description/>
  <dc:language>en-US</dc:language>
  <cp:lastModifiedBy>Connie White</cp:lastModifiedBy>
  <dcterms:modified xsi:type="dcterms:W3CDTF">2008-07-24T03:07:08Z</dcterms:modified>
  <cp:revision>29</cp:revision>
  <dc:subject/>
  <dc:title>Top Web 2.0 Tools  Voicethread/J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101033</vt:lpwstr>
  </property>
</Properties>
</file>